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7D5-0B74-467A-BB82-E450C09B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38E-AF25-4BC5-AD0D-4B1DC174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B47-60CE-4142-9880-14B3BCFD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B31-7291-43F5-9380-05841342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FFB8-75F4-42BE-95B3-E185BBC7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456F-F6DD-48BC-99DC-3228E145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F76A-3A74-4E5B-AA53-07D0AE43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45C-650C-4465-89D1-F01F34F4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D034-B38E-4293-B12E-414F16F3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A56B-FB74-482F-A780-E790EC07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E92D-D551-4214-A3E3-7019A377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DEC-E1D4-4038-B007-05DB0423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CC70-FFAE-4750-B13D-0C78296B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FDA-BCEB-4C17-9689-B25C1D7E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5954-E433-4ED2-A3C6-E519AC7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73C9-2645-4918-BAF3-1F3D00CF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D670-5A37-4003-9890-E5060CBC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962-D7AE-4D24-BFD1-38C4ABD3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25A-C869-4C91-A010-BE3B5A98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26B-9118-4284-A943-BB0326BB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1D4-F5B8-466D-8A9D-956E4050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441-F568-40B9-B877-AA84CD8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F92-5576-4267-B427-06D4B93C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0CD-499B-48B9-A918-319FDFD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9C9D-6534-45F7-BFF2-07F1EDF4D0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2330-7810-4750-AD6C-6B7F51341BF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N_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8800">
            <a:off x="2514600" y="1905120"/>
            <a:ext cx="408636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Ravie"/>
              </a:rPr>
              <a:t>Lesson 53</a:t>
            </a:r>
            <a:endParaRPr b="1" i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Ravie"/>
              <a:ea typeface="Ravie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7960" y="48117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aeafe"/>
                </a:solidFill>
                <a:latin typeface="zypyyb"/>
                <a:ea typeface="zypyyb"/>
              </a:rPr>
              <a:t>By TianFengch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334120"/>
            <a:ext cx="4648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ccff"/>
                </a:solidFill>
                <a:latin typeface="幼圆"/>
                <a:ea typeface="幼圆"/>
              </a:rPr>
              <a:t>No.1 Middle School of Jiaojiang Taizhou,Zheji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09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Listen to the tape and then answ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15440" y="1143000"/>
            <a:ext cx="37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1760" y="2133720"/>
            <a:ext cx="66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1.What are Jane and Zhou Lan talking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2080" y="25909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y are talking about their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6640" y="312408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2.Why won’t Zhou Lan go walking around Lond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720" y="3616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Because it’s too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7720" y="422424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3.Where will Jane and Zhou Lan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9760" y="47242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 Science 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UN_034" descr=""/>
          <p:cNvPicPr/>
          <p:nvPr/>
        </p:nvPicPr>
        <p:blipFill>
          <a:blip r:embed="rId1"/>
          <a:stretch/>
        </p:blipFill>
        <p:spPr>
          <a:xfrm>
            <a:off x="1219320" y="6019920"/>
            <a:ext cx="761976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84800" y="2286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2400" y="106668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1.feel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2040" y="137160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seem to be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象是；摸起来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64680" y="167652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feel like a f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1640" y="19810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t feels like co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6600" y="228600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have a desire for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想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0840" y="259092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’ll go for a walk if you feel lik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0560" y="297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don’t feel like (eating) a big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6960" y="32767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2.so/as fa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09320" y="35812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就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来说， 在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范围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50560" y="3886200"/>
            <a:ext cx="73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 far as I know he will be away for three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28960" y="4191120"/>
            <a:ext cx="80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s far as I could see, it is a matter of great impor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6240" y="449568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He’ll help you as far as he 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83240" y="480060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至某一明确地点；同样远的距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73960" y="513864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e walked as far as the post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562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 didn’t go as far as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410080"/>
            <a:ext cx="7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WS_044" descr=""/>
          <p:cNvPicPr/>
          <p:nvPr/>
        </p:nvPicPr>
        <p:blipFill>
          <a:blip r:embed="rId1"/>
          <a:stretch/>
        </p:blipFill>
        <p:spPr>
          <a:xfrm>
            <a:off x="7467480" y="4572000"/>
            <a:ext cx="1222560" cy="2035080"/>
          </a:xfrm>
          <a:prstGeom prst="rect">
            <a:avLst/>
          </a:prstGeom>
          <a:ln w="0">
            <a:noFill/>
          </a:ln>
        </p:spPr>
      </p:pic>
      <p:pic>
        <p:nvPicPr>
          <p:cNvPr id="132" name="line10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3703680" cy="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52880" y="58572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3.would rather do…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宁愿干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7320" y="94788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not go to see the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447920"/>
            <a:ext cx="77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go there on foot than ride a bi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26800" y="2286000"/>
            <a:ext cx="39585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ahoma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prefer walking to cyc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He prefer tea to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wouldn’t like to do tha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5880" y="182880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’d rather have tea than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86960" y="426708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4.personally 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就自己而言；亲自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2880" y="480060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ersonally, I don’t think much of your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5200" y="53341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showed me around the school pers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ZW_015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ZW_020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789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22320" y="304920"/>
            <a:ext cx="6118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Make up sentences using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sentence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9160" y="1143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I feel 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9080" y="15238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I’d rather(not)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6920" y="190512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As far as I kn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35640" y="22860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4.I’m ready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3040" y="274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6720" y="312408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想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feel like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去看电影，你愿意同我一道去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8320" y="3505320"/>
            <a:ext cx="78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feel like going to the cinema.Would you like to go with 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4520" y="3886200"/>
            <a:ext cx="37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就我自己而言，我宁愿发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e-mail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给他而不愿写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51120" y="4343400"/>
            <a:ext cx="63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ersonally, I’d rather e-mail him than write h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05000" y="48006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打算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intend to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明天去看有关太空和卫星的展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5480" y="5340240"/>
            <a:ext cx="7241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intend to see the exhibition about space and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tomor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W_006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0638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W_011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-571680"/>
            <a:ext cx="7792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Make </a:t>
            </a:r>
            <a:r>
              <a:rPr b="0" i="1" lang="en-US" sz="2800" spc="-1" strike="noStrike">
                <a:solidFill>
                  <a:srgbClr val="ff3399"/>
                </a:solidFill>
                <a:latin typeface="Tahoma"/>
              </a:rPr>
              <a:t>up</a:t>
            </a: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 dialogues using the following sit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886200"/>
            <a:ext cx="914400" cy="609480"/>
          </a:xfrm>
          <a:prstGeom prst="cloudCallout">
            <a:avLst>
              <a:gd name="adj1" fmla="val 56250"/>
              <a:gd name="adj2" fmla="val -129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1676520" cy="1904760"/>
          </a:xfrm>
          <a:prstGeom prst="cloudCallout">
            <a:avLst>
              <a:gd name="adj1" fmla="val -117800"/>
              <a:gd name="adj2" fmla="val 83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752480"/>
            <a:ext cx="4191120" cy="5105520"/>
          </a:xfrm>
          <a:prstGeom prst="cloudCallout">
            <a:avLst>
              <a:gd name="adj1" fmla="val -36287"/>
              <a:gd name="adj2" fmla="val -57305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ahoma"/>
              </a:rPr>
              <a:t>Situat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Students A &amp; B are talking about going to see a film about space and satellites at Jiaojiang Theatre on Saturday ev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33760" y="1219320"/>
            <a:ext cx="3657600" cy="5410080"/>
          </a:xfrm>
          <a:prstGeom prst="cloudCallout">
            <a:avLst>
              <a:gd name="adj1" fmla="val 65578"/>
              <a:gd name="adj2" fmla="val 47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1905120"/>
            <a:ext cx="3962520" cy="4647960"/>
          </a:xfrm>
          <a:prstGeom prst="cloudCallout">
            <a:avLst>
              <a:gd name="adj1" fmla="val -49680"/>
              <a:gd name="adj2" fmla="val -631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200400"/>
            <a:ext cx="3276720" cy="3200400"/>
          </a:xfrm>
          <a:prstGeom prst="cloudCallout">
            <a:avLst>
              <a:gd name="adj1" fmla="val -80569"/>
              <a:gd name="adj2" fmla="val -84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057400"/>
            <a:ext cx="3962520" cy="4800600"/>
          </a:xfrm>
          <a:prstGeom prst="cloudCallout">
            <a:avLst>
              <a:gd name="adj1" fmla="val 35055"/>
              <a:gd name="adj2" fmla="val -61773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itua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om and Lin Ming are talking about making a model spaceship on Sun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RW_01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800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SUN_0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529080" y="2952720"/>
            <a:ext cx="20858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Goodbye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7:59:53Z</dcterms:created>
  <dc:creator>Terence</dc:creator>
  <dc:description/>
  <dc:language>en-US</dc:language>
  <cp:lastModifiedBy>Terence</cp:lastModifiedBy>
  <dcterms:modified xsi:type="dcterms:W3CDTF">2002-02-23T11:18:42Z</dcterms:modified>
  <cp:revision>19</cp:revision>
  <dc:subject/>
  <dc:title>PowerPoint 演示文稿</dc:title>
</cp:coreProperties>
</file>